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1CD2-C235-4735-9B01-B2DEB412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A945-571B-49CD-915C-E04A524F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8DD77-FB6E-4A11-A717-F341BB27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B0098-CAED-4597-A07E-A65205D7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5F82A-0B3D-491B-92A4-D251BBA1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A55E4-26E1-4E69-9847-43D8C710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441FD-5E1E-4BDF-B3D3-DB68E071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8F7DE-286C-4782-8072-D253FE88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2735C-E116-4050-A415-24D77DB7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84FC8-A51A-4CB0-873E-AE89417E7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F4FDA-BF6B-447D-829B-A8667C27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B9444-92F9-44BD-A975-931CC0534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0481-1EAD-404B-8FDF-96D0DB01A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18681-D7FE-4285-925C-D4CD64C6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79AE9-A455-4415-BBB8-B501CB44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7E51D-D33D-4B64-A7CF-8D831F1A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5D73C-6A3D-44B6-8082-F7167B66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69701-903F-47F0-9F14-F380F6C5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4A3E6-9C41-441D-AF38-EA1408C1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4E62BC-B379-4879-9B9C-F801B7C7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97423-01C5-4913-994D-1DCCE42D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9BBA4F-4A1E-4728-9B41-B33BB81A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2D673-4F78-4BCF-BD3D-859899698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FBD3-6646-49FE-9742-45110C5A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D02026-6615-4DBE-9F42-9B48D92A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AAEE4-E6E7-4C51-9DD6-F99813768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E0C31-1B16-492E-8107-B77C6CD3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5A3C0-920E-4514-B537-2945281F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B0F7C-C614-4301-A0EF-98425BAE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AF1EF-A39D-4490-8518-6A7DFA46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6C9AC-1CD1-4FD6-A112-CCC42FBC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E5CDF-D33D-4339-B4A4-84B3184E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760AB-6AE5-4882-94A9-68B73023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7ABC4-E4D2-4BC9-9B11-5E22FB25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A775-7596-4E15-AD6D-47A713CB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20B34-631E-41E2-A0C6-4F791D95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42DA8-D618-4AB0-8A96-F68A5A9FB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9800C-A02D-4AA8-B6D6-11CA17741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547BBF-32FD-4A87-84C9-797756FE1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0A5C8-0B19-450D-9328-83144D3A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B2547-485E-4C7F-9950-2F4A6018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EE4CD-DAEF-4FA4-AA98-3E8AA400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5C5E2B-5D36-43F2-A5CD-29D7A888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81D880-329D-441D-B236-DD6D01A7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39902-D5C7-4992-9B23-93956B7E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7B4D-BF5D-4FB7-938C-E91B504E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E7E7B-70F5-4F02-92A3-8909B2B1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C3A6B-7B10-4388-B1B3-29A6EB0A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569835-71CF-48E6-9EE4-F482F113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A26963-1B3B-43B8-B148-5C7AB447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D8BC7-365E-4D42-AE3B-9133989F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05BF45-4439-45B9-AC97-81389C1C0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6A5315-363C-44F4-89FC-1A27B96F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FA7336-FB36-4AB4-901A-D0DDCB25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9836EF-4EA0-483E-AE2C-4F748327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268C28-F6AB-4F12-BE37-8FD5F9D8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317A-5253-440C-9661-77897E1B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F27643-C528-4181-88B1-4E270519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4D69D5-73E6-4370-B3AE-F0743ED7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AB92B5-4B63-4124-B7EF-FD266E26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EE53DC-7F60-4FDE-A047-9E97160C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AA9160-2657-417A-900B-0F164E91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B35BD7-683A-4BBC-8662-C15B166F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9D1EAC-DF6A-48EF-9CE0-B2E4ECF7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2BC188-8BAD-4221-887A-CAD62EFED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B20486-6334-483A-BB53-E67F3924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05332E-BA17-415D-9585-065F72DE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961E-689F-4021-A7D7-81E24EC5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F44198-8996-41FC-B9F2-7FCE3A74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E58C6F-169A-424E-89E6-5B93A62C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8C71E9-4156-4645-9E79-0EBC5506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CC0B32-46DC-4931-B041-8268DD39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01EABB-86E1-4145-81A6-3834C6ED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37E5B1-9088-4522-9C37-0D864348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1375A7-5626-44EE-B1B3-6A1DC4E4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491E4D-8C26-4E92-98EE-A5BF87A2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85D9F0-055B-442C-A468-745E65DC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113BB7-7C69-40B9-9B69-E0905994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F1CF-3670-426F-BF39-24947ECC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33406A-7C7A-4962-B724-9BAC7077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B76AE3-7D87-47FA-B589-8B527D85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3E3CAF-EE68-46E8-9C87-D54C0273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A5717C-48B3-4C7F-8625-8A9AEA2B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4DC00C-78D7-4B99-B752-A521FFD3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E0C4FA-0FD4-4927-B180-93470C43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3DFA1E-B47C-421A-9058-562198E5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493C84-82A6-4730-BD3B-2E8A5CAC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05D525-3352-4585-8BBD-95088E35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A02B71-BEB5-4638-A00C-21D79D73B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1DD5-2773-4004-9B77-3C610654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9737CE-BFA8-4205-8225-D019C13A7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28F4FD-D84D-4ADC-8170-1FDCDCA38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22B2C7-820B-4A0C-8DC2-8A2A3B77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3C9066-461C-4C6B-899D-66242877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4EFEF4-8E1E-4D60-AE8E-49E78F0E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6DA8FF-D43C-4B5C-AEC5-5FA04CA6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49F79E-F6DB-4E1C-AC7F-13D77429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8441C9-20BF-4EA9-8D66-DBA5E1E8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FF035B-25A9-4D59-8B2A-CB7DA8D6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D0E5A3-C176-4A5E-BCB3-38AF2A84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CD94-E2AF-4D97-A16D-D46157AB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F374F2-603D-4A38-8D0B-02D2BB3D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446444-F831-4963-8E84-AE1965180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636EC6-3521-40AD-8CE6-83C4AA18F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05ADD4-DB66-424C-856E-7AFCB236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8B6D0D-AED0-4BF9-8D80-8DC3FBD7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D6F9BF-6BC6-437A-9608-278E00A5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361A38-C838-4384-8F67-AD37D991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444711-9292-4737-8C07-A59462BA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AC7CA0-3647-4B94-9F70-1ADC57EE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40F831-9A67-42E6-BD17-F3B9D80F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C593-0BC4-47DD-AB0A-6B813492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B553-9EB4-473E-8688-0DB002DE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E7B9FC-54D6-4B7F-B27E-9D020B1D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D896A0-19FA-4035-88D8-8E2D6727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B6F896-2A0E-4714-ABE6-A730C1D2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E0B530-E05F-4843-A70B-EADC1157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47BAE8-FC7C-4E33-A1D3-E38201A95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247EA9-49D8-40C6-B5F7-B5F9F96B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63B689-E2E0-4A09-88A2-86E6417D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CA448B-DEF0-4A58-95FB-C06CAB4D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F3438E-9627-4A88-BF69-C2C3018E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02816F-CF59-4468-999D-825E5947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C8DF-F0F6-4CC6-B839-5FBB380E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B8368F-0AD0-4A6A-8492-3C7248E7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C846D4-C3ED-4905-A1E9-09366A49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1E35C0-EC4F-4395-B01F-682D9182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3A72C6-648F-4493-8FEA-917EF8C7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460ADD-C619-4316-87D6-CD061BDF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8A21BD-C2EE-407E-AC46-0F1E8418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D0FAAF-A8F1-412D-A537-5BEF519A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0DD6DA-AFA9-47CE-AB53-41994FD5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971E42-6856-4396-9C5F-37C216CE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06ECD8-9F8A-478C-9592-3E39AF3C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CB9C-C9B4-475B-A7FE-96F80C21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ABE8F5-B07A-4CCD-8693-43F0CBEA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DC83CE-FC41-4269-9626-858F36E2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F0AB58-A9CC-46E7-9B2C-9FB8511C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AFC359-52E9-42A2-A3AE-9FD071A6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DD2D09-152F-46FE-A02E-54C72BD9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825B62-572F-4129-9CDF-E7032B88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46F8BB-A4BC-46ED-A6DA-5654097C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F0F3AD-26E3-4369-9142-221DC2832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FB69C3-6912-44FC-B185-07DFC8D7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5D00B8-4699-4986-B10C-E3E26A9A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3D12-F853-4102-A268-392C895E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BCF3E4-78A1-487A-8CBE-BEC20261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ED081C-80EB-4FC2-BDA0-BADAAF6D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66B566-BD0D-4747-923C-674B546A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F15D0E-EB36-444E-A9B0-E86F18E0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2EB63A-7A3A-4700-9B7C-123D4F94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656BF2-A188-4846-91E8-E2BD85CC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66B2F1-67AF-4E38-B7DF-CEE7D215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6D6557-C3ED-4DA5-A4D0-83304470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B7D94F-DD6A-4479-ACDC-4BFF903B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33B71F-57FC-4775-8B47-85F2D515D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563A-1793-4F76-9726-2D437B5E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113AEF-B3A4-4141-AA55-6EC3C0E58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AB32DB-DDD7-40E4-BA4A-181CA233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BAC2B6-3F1A-4644-8C55-7B9E3055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71A0F3-D37D-41D5-952B-BEA038B0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D300A9-9D53-4C76-B6D7-E02E1C8C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C59F02-4E1E-44D2-8A59-7D1944E4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98347D-D737-4F8C-A42C-9C0B97F2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387B0D-8C59-4DAA-8754-5643DA38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67CBA8-4963-40AF-BAAB-F84A680C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BBA47F-17BA-4515-89B1-1B59D4BD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1D36A-5FE9-4097-8CCA-F321AA05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68382D-B05A-4305-B2D9-A135566B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2B590F-DFD0-4083-A4F7-B92764483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731DD4-A97A-4A9D-83CC-16529D9E5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C7B73-CC48-487C-9A72-AE011BD4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3798F-41CB-481C-A751-D320B3B7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FF2FE-81CA-49CD-AF84-427D1CDF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1A0F5-C9B8-4C21-8091-636D545F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9C23-D174-4361-9622-8B586566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14054-7C4D-4DD4-834C-9B293A6E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3F547-FA59-4832-976A-97DFB1B1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5FF3B-4CF7-4179-A17E-0BC831EA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0B7F7-2FD2-4388-81A0-9C21552F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7BE30-9D21-4D2E-AD0F-1B88EB46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FA536-A473-428B-81C5-58185C38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5CF6B-40C7-4263-97D0-42EF90B01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E70F2-B450-4960-83AF-D92B5B87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E6CAA-B553-404E-8CFF-E6B96039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467E2-7A02-4D66-BC26-A3BFF4B9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928E-C001-4048-87EE-D38EB136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1D3E9-DABF-48DE-A93F-52536E6B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BE257-5DF8-42FC-9F4C-D7D555D1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386D0-5870-427F-B31B-463B4B21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BDA00-012F-4A45-8335-F87A72D5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21F7D-0EF3-4AE1-A2C3-74BC2CDF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79749-C594-4999-99CC-67D34D6B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B6A12-87D6-43BA-997B-7B4463DB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9CF63-1CFC-4FD9-9854-F95E54C2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324DB-C6E3-4F5D-827F-B3F32307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A07A7-9CBD-4C32-BF82-238CEA43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228E-FFB2-43E4-A94F-CFF43ED6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F6D42-04AC-496D-B111-E3DB2F8E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21F21-ABFD-4EB6-B318-201820F4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2CB2A-66FA-4CDE-961B-7995B3DA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E6B1C-4D7C-4C9C-93FA-A31BA56F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9C5DD-F418-4B6B-A762-4553009A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4C489-2851-4128-931B-1D5C7B51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A3F01-BC1B-44C8-9973-8CE8B163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3AE99-FEA8-4A57-9B4C-72879382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D0F7A-2ADE-4568-8655-7B52AF28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9A333-B65D-47F7-B9BA-42F6A37F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C505-612E-477D-B3A3-B5A8828A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DA013-6A20-4F58-AC08-D715F942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BA558-F169-4165-ADAE-1E5603C0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2798C-FCEA-438B-AAD8-C5A1EBFD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D6331-4AEA-4E64-84B8-31499D77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25ACE-5E1C-4DC7-A34A-72CBA86D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C8891-88F1-4368-A935-8FD9F2D4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36D5B-7F31-4BAD-8AF8-7A48A92C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A900A-238F-42F2-B79C-517C6B80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C8202-4DB3-4650-8FDA-B0C82F1A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16BF2-EB2D-4D08-97C2-DC205BC3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8ED1-B0F3-42F1-9518-7E1564BB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3E571-F978-43AD-BAC3-9BA4553B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65CDB-C8C3-4E6A-BDE2-D19BFA77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6156E-FE9E-43EA-814A-E1C2AA8C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1CC98-1F16-4406-BC7F-7AB80694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5D8D0-AF18-4C95-8EDB-CDF2511D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1AB5B-8521-4FDE-B7C1-DD34F149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D40A1-11D3-4608-81E7-78DA6EE5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DA89E-8A61-40A3-9035-8915A519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52CD6-DEA2-420D-B3E5-A2D50B5F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72697-35AB-4D2B-A6A8-7D2DCFB6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BEE8-D902-452C-8B61-09C62DAD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0FB3A-495B-4D71-ACF1-784B5975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C5051-0D54-450F-8289-B10614D5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DBEF8-448C-43B3-ADA0-469836DD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1AA9E-A5C5-4A3A-A7BD-9C8E6B231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7D952-F089-47B8-81C9-BE1326D9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52B4F-B490-4263-9C6D-29AB690A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11F73-87EF-4EB1-A5CC-61DF436A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CDBF0-03E6-4611-A084-E6309D17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2FA17-ECF7-4587-BAB5-DE6102B9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80A27-E3AC-49A5-B018-18FACCD0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63CF-B6E7-4FA7-A366-A42A9E85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D6C15-4995-4CB3-B27C-9068DD03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0A75E-F39D-4724-A3E9-1B8FD788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03179-C208-4C29-84E4-C38C8707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D585B-2242-4150-9571-C33C8CF6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11E3E-429D-4833-BAB2-AB765C80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A493B-0A36-44B8-A085-19055E982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C6047-1D7C-454D-95B1-81B012EC4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45580-1C14-4263-8C9F-5FCF0C549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BDFF4-8713-4FDB-96A6-80AB5647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D4BCF-B0F3-4B65-B78E-36CF79C1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8D76-8C43-4AF4-8C90-6D5497732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8205-E72B-4490-AE5D-3FF8430F66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AEAB-F633-41AD-B3E8-62836B105C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565B-8F5D-4511-A626-A542522FEB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2FB4-02DB-403E-8397-01363B9D8A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3909-C533-46D8-B36A-384647C9B5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E18B-F75B-4E99-A255-8352210E04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3C10-916C-4278-9E6D-A8BFA609D5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1406-2114-4A1F-AC91-4BAFF37963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81FA-5F3A-439A-ABB3-9E89C94F35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2D07-F0B8-4B16-A1A3-410A3D55D5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901D-53E4-4513-94CF-BE767F7B06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CEBB-38D3-4E3A-A1CD-6E09305E6E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846A-0A62-4863-AA10-C4B377E84A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0A0D-C1B7-4A37-A532-4B01E9A37E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F9CD-CA0B-4B8A-9814-B899659554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ACCD-BBA9-43EB-B676-193E668422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7122-4C50-4EA3-B4CD-359C029219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43B7-5B5A-4545-B772-2BEF6038A7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E7F0-A6E7-44F5-8D48-0377BD0C57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2858-B000-47B0-9F41-D1A26D109A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C2AC-1485-4931-87C2-5634DDEE19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3222-C71D-426E-9B08-302242C37B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6C04-A30D-4143-864D-B6A9A4017D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AC70-47B7-41A5-8B72-2E86EB97B6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1750-CFAC-4FE2-83AA-388B2950A9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8B23-8016-434A-8702-FD2C375890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9F13-F03C-4A1A-8D91-D3C71B52C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AA25-8958-4604-BA4E-D36BF42344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3F71-8E52-4293-AF2B-4AE3584375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3D99-006C-48EE-8D72-FC315A5A8D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45CA-6413-45A7-9D68-A9C806D3AA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9F8A-443D-4721-B1C0-92C7EF9FBB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0867-0F60-48A4-8336-8A89268582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B09B-A89B-4E9C-ADDC-05D547671F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DE39-2FE5-42AC-B290-70DEB64391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70AE-15F8-49CC-84FA-DD4F0081F4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9571-7A63-4717-845E-BB26811177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6182-88A7-4313-BA5F-F6A111D748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2FFE-4807-4364-A8C4-41ABADBF50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185760" y="2233440"/>
            <a:ext cx="8772480" cy="23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1" descr=""/>
          <p:cNvPicPr/>
          <p:nvPr/>
        </p:nvPicPr>
        <p:blipFill>
          <a:blip r:embed="rId1"/>
          <a:stretch/>
        </p:blipFill>
        <p:spPr>
          <a:xfrm>
            <a:off x="228600" y="1514520"/>
            <a:ext cx="8686800" cy="4200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2"/>
          <a:stretch/>
        </p:blipFill>
        <p:spPr>
          <a:xfrm>
            <a:off x="8259840" y="1484280"/>
            <a:ext cx="442800" cy="3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1" descr=""/>
          <p:cNvPicPr/>
          <p:nvPr/>
        </p:nvPicPr>
        <p:blipFill>
          <a:blip r:embed="rId1"/>
          <a:stretch/>
        </p:blipFill>
        <p:spPr>
          <a:xfrm>
            <a:off x="247680" y="885960"/>
            <a:ext cx="8648640" cy="25430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2" descr=""/>
          <p:cNvPicPr/>
          <p:nvPr/>
        </p:nvPicPr>
        <p:blipFill>
          <a:blip r:embed="rId2"/>
          <a:stretch/>
        </p:blipFill>
        <p:spPr>
          <a:xfrm>
            <a:off x="247680" y="3619440"/>
            <a:ext cx="8648640" cy="30956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3"/>
          <a:stretch/>
        </p:blipFill>
        <p:spPr>
          <a:xfrm>
            <a:off x="8259840" y="836640"/>
            <a:ext cx="442800" cy="3556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4"/>
          <a:stretch/>
        </p:blipFill>
        <p:spPr>
          <a:xfrm>
            <a:off x="8259840" y="4154400"/>
            <a:ext cx="442800" cy="3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1" descr=""/>
          <p:cNvPicPr/>
          <p:nvPr/>
        </p:nvPicPr>
        <p:blipFill>
          <a:blip r:embed="rId1"/>
          <a:stretch/>
        </p:blipFill>
        <p:spPr>
          <a:xfrm>
            <a:off x="233280" y="1109520"/>
            <a:ext cx="8677440" cy="52484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2"/>
          <a:stretch/>
        </p:blipFill>
        <p:spPr>
          <a:xfrm>
            <a:off x="8244000" y="1052640"/>
            <a:ext cx="442800" cy="35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1" descr=""/>
          <p:cNvPicPr/>
          <p:nvPr/>
        </p:nvPicPr>
        <p:blipFill>
          <a:blip r:embed="rId1"/>
          <a:stretch/>
        </p:blipFill>
        <p:spPr>
          <a:xfrm>
            <a:off x="214200" y="1100160"/>
            <a:ext cx="8715600" cy="51148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2"/>
          <a:stretch/>
        </p:blipFill>
        <p:spPr>
          <a:xfrm>
            <a:off x="1042920" y="1871640"/>
            <a:ext cx="443160" cy="3556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3"/>
          <a:stretch/>
        </p:blipFill>
        <p:spPr>
          <a:xfrm>
            <a:off x="1571760" y="1871640"/>
            <a:ext cx="442800" cy="3556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4"/>
          <a:stretch/>
        </p:blipFill>
        <p:spPr>
          <a:xfrm>
            <a:off x="2097000" y="1860480"/>
            <a:ext cx="443160" cy="3556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5"/>
          <a:stretch/>
        </p:blipFill>
        <p:spPr>
          <a:xfrm>
            <a:off x="2616120" y="1852560"/>
            <a:ext cx="443160" cy="3556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6"/>
          <a:stretch/>
        </p:blipFill>
        <p:spPr>
          <a:xfrm>
            <a:off x="3139920" y="1846440"/>
            <a:ext cx="443160" cy="3538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7"/>
          <a:stretch/>
        </p:blipFill>
        <p:spPr>
          <a:xfrm>
            <a:off x="3665520" y="1841400"/>
            <a:ext cx="442800" cy="3556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" descr=""/>
          <p:cNvPicPr/>
          <p:nvPr/>
        </p:nvPicPr>
        <p:blipFill>
          <a:blip r:embed="rId8"/>
          <a:stretch/>
        </p:blipFill>
        <p:spPr>
          <a:xfrm>
            <a:off x="4194000" y="1841400"/>
            <a:ext cx="443160" cy="3556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4" descr=""/>
          <p:cNvPicPr/>
          <p:nvPr/>
        </p:nvPicPr>
        <p:blipFill>
          <a:blip r:embed="rId9"/>
          <a:stretch/>
        </p:blipFill>
        <p:spPr>
          <a:xfrm>
            <a:off x="4719600" y="1830240"/>
            <a:ext cx="442800" cy="3556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10"/>
          <a:stretch/>
        </p:blipFill>
        <p:spPr>
          <a:xfrm>
            <a:off x="5238720" y="1822320"/>
            <a:ext cx="442800" cy="3556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4" descr=""/>
          <p:cNvPicPr/>
          <p:nvPr/>
        </p:nvPicPr>
        <p:blipFill>
          <a:blip r:embed="rId11"/>
          <a:stretch/>
        </p:blipFill>
        <p:spPr>
          <a:xfrm>
            <a:off x="5762520" y="1816200"/>
            <a:ext cx="443160" cy="353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4" descr=""/>
          <p:cNvPicPr/>
          <p:nvPr/>
        </p:nvPicPr>
        <p:blipFill>
          <a:blip r:embed="rId12"/>
          <a:stretch/>
        </p:blipFill>
        <p:spPr>
          <a:xfrm>
            <a:off x="6288120" y="1857240"/>
            <a:ext cx="442800" cy="3556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4" descr=""/>
          <p:cNvPicPr/>
          <p:nvPr/>
        </p:nvPicPr>
        <p:blipFill>
          <a:blip r:embed="rId13"/>
          <a:stretch/>
        </p:blipFill>
        <p:spPr>
          <a:xfrm>
            <a:off x="6816600" y="1857240"/>
            <a:ext cx="443160" cy="3556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" descr=""/>
          <p:cNvPicPr/>
          <p:nvPr/>
        </p:nvPicPr>
        <p:blipFill>
          <a:blip r:embed="rId14"/>
          <a:stretch/>
        </p:blipFill>
        <p:spPr>
          <a:xfrm>
            <a:off x="7342200" y="1846440"/>
            <a:ext cx="442800" cy="3538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4" descr=""/>
          <p:cNvPicPr/>
          <p:nvPr/>
        </p:nvPicPr>
        <p:blipFill>
          <a:blip r:embed="rId15"/>
          <a:stretch/>
        </p:blipFill>
        <p:spPr>
          <a:xfrm>
            <a:off x="7861320" y="1838160"/>
            <a:ext cx="442800" cy="3556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4" descr=""/>
          <p:cNvPicPr/>
          <p:nvPr/>
        </p:nvPicPr>
        <p:blipFill>
          <a:blip r:embed="rId16"/>
          <a:stretch/>
        </p:blipFill>
        <p:spPr>
          <a:xfrm>
            <a:off x="8385120" y="1830240"/>
            <a:ext cx="442800" cy="3556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4" descr=""/>
          <p:cNvPicPr/>
          <p:nvPr/>
        </p:nvPicPr>
        <p:blipFill>
          <a:blip r:embed="rId17"/>
          <a:stretch/>
        </p:blipFill>
        <p:spPr>
          <a:xfrm>
            <a:off x="6300720" y="4149720"/>
            <a:ext cx="792360" cy="3538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4" descr=""/>
          <p:cNvPicPr/>
          <p:nvPr/>
        </p:nvPicPr>
        <p:blipFill>
          <a:blip r:embed="rId18"/>
          <a:stretch/>
        </p:blipFill>
        <p:spPr>
          <a:xfrm>
            <a:off x="7178760" y="4702320"/>
            <a:ext cx="792000" cy="35532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"/>
          <p:cNvPicPr/>
          <p:nvPr/>
        </p:nvPicPr>
        <p:blipFill>
          <a:blip r:embed="rId19"/>
          <a:stretch/>
        </p:blipFill>
        <p:spPr>
          <a:xfrm>
            <a:off x="5219640" y="5251320"/>
            <a:ext cx="792360" cy="3556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4" descr=""/>
          <p:cNvPicPr/>
          <p:nvPr/>
        </p:nvPicPr>
        <p:blipFill>
          <a:blip r:embed="rId20"/>
          <a:stretch/>
        </p:blipFill>
        <p:spPr>
          <a:xfrm>
            <a:off x="4443480" y="5789520"/>
            <a:ext cx="792000" cy="3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Picture 1" descr=""/>
          <p:cNvPicPr/>
          <p:nvPr/>
        </p:nvPicPr>
        <p:blipFill>
          <a:blip r:embed="rId1"/>
          <a:stretch/>
        </p:blipFill>
        <p:spPr>
          <a:xfrm>
            <a:off x="247680" y="895320"/>
            <a:ext cx="8648640" cy="567684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4" descr=""/>
          <p:cNvPicPr/>
          <p:nvPr/>
        </p:nvPicPr>
        <p:blipFill>
          <a:blip r:embed="rId2"/>
          <a:stretch/>
        </p:blipFill>
        <p:spPr>
          <a:xfrm>
            <a:off x="3708360" y="4292640"/>
            <a:ext cx="792360" cy="3556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4" descr=""/>
          <p:cNvPicPr/>
          <p:nvPr/>
        </p:nvPicPr>
        <p:blipFill>
          <a:blip r:embed="rId3"/>
          <a:stretch/>
        </p:blipFill>
        <p:spPr>
          <a:xfrm>
            <a:off x="2340000" y="5275440"/>
            <a:ext cx="3744720" cy="3538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4" descr=""/>
          <p:cNvPicPr/>
          <p:nvPr/>
        </p:nvPicPr>
        <p:blipFill>
          <a:blip r:embed="rId4"/>
          <a:stretch/>
        </p:blipFill>
        <p:spPr>
          <a:xfrm>
            <a:off x="6292800" y="5732640"/>
            <a:ext cx="792360" cy="35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Picture 1" descr=""/>
          <p:cNvPicPr/>
          <p:nvPr/>
        </p:nvPicPr>
        <p:blipFill>
          <a:blip r:embed="rId1"/>
          <a:stretch/>
        </p:blipFill>
        <p:spPr>
          <a:xfrm>
            <a:off x="237960" y="957240"/>
            <a:ext cx="8668080" cy="554364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4" descr=""/>
          <p:cNvPicPr/>
          <p:nvPr/>
        </p:nvPicPr>
        <p:blipFill>
          <a:blip r:embed="rId2"/>
          <a:stretch/>
        </p:blipFill>
        <p:spPr>
          <a:xfrm>
            <a:off x="1187280" y="1413000"/>
            <a:ext cx="6769440" cy="35532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4" descr=""/>
          <p:cNvPicPr/>
          <p:nvPr/>
        </p:nvPicPr>
        <p:blipFill>
          <a:blip r:embed="rId3"/>
          <a:stretch/>
        </p:blipFill>
        <p:spPr>
          <a:xfrm>
            <a:off x="1332000" y="2811600"/>
            <a:ext cx="1439640" cy="35532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4" descr=""/>
          <p:cNvPicPr/>
          <p:nvPr/>
        </p:nvPicPr>
        <p:blipFill>
          <a:blip r:embed="rId4"/>
          <a:stretch/>
        </p:blipFill>
        <p:spPr>
          <a:xfrm>
            <a:off x="4140360" y="3770280"/>
            <a:ext cx="3240000" cy="35568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4" descr=""/>
          <p:cNvPicPr/>
          <p:nvPr/>
        </p:nvPicPr>
        <p:blipFill>
          <a:blip r:embed="rId5"/>
          <a:stretch/>
        </p:blipFill>
        <p:spPr>
          <a:xfrm>
            <a:off x="5235480" y="4699080"/>
            <a:ext cx="792360" cy="35388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4" descr=""/>
          <p:cNvPicPr/>
          <p:nvPr/>
        </p:nvPicPr>
        <p:blipFill>
          <a:blip r:embed="rId6"/>
          <a:stretch/>
        </p:blipFill>
        <p:spPr>
          <a:xfrm>
            <a:off x="6891480" y="5641920"/>
            <a:ext cx="576000" cy="3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"/>
          <p:cNvPicPr/>
          <p:nvPr/>
        </p:nvPicPr>
        <p:blipFill>
          <a:blip r:embed="rId1"/>
          <a:stretch/>
        </p:blipFill>
        <p:spPr>
          <a:xfrm>
            <a:off x="185760" y="1252440"/>
            <a:ext cx="7886520" cy="198144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"/>
          <p:cNvPicPr/>
          <p:nvPr/>
        </p:nvPicPr>
        <p:blipFill>
          <a:blip r:embed="rId2"/>
          <a:stretch/>
        </p:blipFill>
        <p:spPr>
          <a:xfrm>
            <a:off x="757080" y="3324240"/>
            <a:ext cx="8172720" cy="239076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4" descr=""/>
          <p:cNvPicPr/>
          <p:nvPr/>
        </p:nvPicPr>
        <p:blipFill>
          <a:blip r:embed="rId3"/>
          <a:stretch/>
        </p:blipFill>
        <p:spPr>
          <a:xfrm>
            <a:off x="6588000" y="3794040"/>
            <a:ext cx="2376720" cy="35568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4" descr=""/>
          <p:cNvPicPr/>
          <p:nvPr/>
        </p:nvPicPr>
        <p:blipFill>
          <a:blip r:embed="rId4"/>
          <a:stretch/>
        </p:blipFill>
        <p:spPr>
          <a:xfrm>
            <a:off x="1042920" y="4300560"/>
            <a:ext cx="1873440" cy="35568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4" descr=""/>
          <p:cNvPicPr/>
          <p:nvPr/>
        </p:nvPicPr>
        <p:blipFill>
          <a:blip r:embed="rId5"/>
          <a:stretch/>
        </p:blipFill>
        <p:spPr>
          <a:xfrm>
            <a:off x="3635280" y="4797360"/>
            <a:ext cx="792360" cy="35568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4" descr=""/>
          <p:cNvPicPr/>
          <p:nvPr/>
        </p:nvPicPr>
        <p:blipFill>
          <a:blip r:embed="rId6"/>
          <a:stretch/>
        </p:blipFill>
        <p:spPr>
          <a:xfrm>
            <a:off x="4875120" y="5305320"/>
            <a:ext cx="1008000" cy="3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Picture 1" descr=""/>
          <p:cNvPicPr/>
          <p:nvPr/>
        </p:nvPicPr>
        <p:blipFill>
          <a:blip r:embed="rId1"/>
          <a:stretch/>
        </p:blipFill>
        <p:spPr>
          <a:xfrm>
            <a:off x="190440" y="1104840"/>
            <a:ext cx="8763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1" name="Picture 1" descr=""/>
          <p:cNvPicPr/>
          <p:nvPr/>
        </p:nvPicPr>
        <p:blipFill>
          <a:blip r:embed="rId1"/>
          <a:stretch/>
        </p:blipFill>
        <p:spPr>
          <a:xfrm>
            <a:off x="800280" y="914400"/>
            <a:ext cx="7772400" cy="122868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2" descr=""/>
          <p:cNvPicPr/>
          <p:nvPr/>
        </p:nvPicPr>
        <p:blipFill>
          <a:blip r:embed="rId2"/>
          <a:stretch/>
        </p:blipFill>
        <p:spPr>
          <a:xfrm>
            <a:off x="471600" y="2252520"/>
            <a:ext cx="8200800" cy="424836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4" descr=""/>
          <p:cNvPicPr/>
          <p:nvPr/>
        </p:nvPicPr>
        <p:blipFill>
          <a:blip r:embed="rId3"/>
          <a:stretch/>
        </p:blipFill>
        <p:spPr>
          <a:xfrm>
            <a:off x="5508720" y="2205000"/>
            <a:ext cx="792000" cy="35568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4" descr=""/>
          <p:cNvPicPr/>
          <p:nvPr/>
        </p:nvPicPr>
        <p:blipFill>
          <a:blip r:embed="rId4"/>
          <a:stretch/>
        </p:blipFill>
        <p:spPr>
          <a:xfrm>
            <a:off x="3132000" y="3141720"/>
            <a:ext cx="792360" cy="35388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4" descr=""/>
          <p:cNvPicPr/>
          <p:nvPr/>
        </p:nvPicPr>
        <p:blipFill>
          <a:blip r:embed="rId5"/>
          <a:stretch/>
        </p:blipFill>
        <p:spPr>
          <a:xfrm>
            <a:off x="1619280" y="4149720"/>
            <a:ext cx="792000" cy="35388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4" descr=""/>
          <p:cNvPicPr/>
          <p:nvPr/>
        </p:nvPicPr>
        <p:blipFill>
          <a:blip r:embed="rId6"/>
          <a:stretch/>
        </p:blipFill>
        <p:spPr>
          <a:xfrm>
            <a:off x="7956720" y="4149720"/>
            <a:ext cx="792000" cy="35388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4" descr=""/>
          <p:cNvPicPr/>
          <p:nvPr/>
        </p:nvPicPr>
        <p:blipFill>
          <a:blip r:embed="rId7"/>
          <a:stretch/>
        </p:blipFill>
        <p:spPr>
          <a:xfrm>
            <a:off x="1692360" y="5603760"/>
            <a:ext cx="358560" cy="35568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4" descr=""/>
          <p:cNvPicPr/>
          <p:nvPr/>
        </p:nvPicPr>
        <p:blipFill>
          <a:blip r:embed="rId8"/>
          <a:stretch/>
        </p:blipFill>
        <p:spPr>
          <a:xfrm>
            <a:off x="4284720" y="6093000"/>
            <a:ext cx="574560" cy="35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Picture 1" descr=""/>
          <p:cNvPicPr/>
          <p:nvPr/>
        </p:nvPicPr>
        <p:blipFill>
          <a:blip r:embed="rId1"/>
          <a:stretch/>
        </p:blipFill>
        <p:spPr>
          <a:xfrm>
            <a:off x="209520" y="757080"/>
            <a:ext cx="8724960" cy="574380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2" descr=""/>
          <p:cNvPicPr/>
          <p:nvPr/>
        </p:nvPicPr>
        <p:blipFill>
          <a:blip r:embed="rId2"/>
          <a:stretch/>
        </p:blipFill>
        <p:spPr>
          <a:xfrm>
            <a:off x="1452600" y="6486480"/>
            <a:ext cx="5600520" cy="37152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4" descr=""/>
          <p:cNvPicPr/>
          <p:nvPr/>
        </p:nvPicPr>
        <p:blipFill>
          <a:blip r:embed="rId3"/>
          <a:stretch/>
        </p:blipFill>
        <p:spPr>
          <a:xfrm>
            <a:off x="3059280" y="4100400"/>
            <a:ext cx="5833800" cy="35424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4" descr=""/>
          <p:cNvPicPr/>
          <p:nvPr/>
        </p:nvPicPr>
        <p:blipFill>
          <a:blip r:embed="rId4"/>
          <a:stretch/>
        </p:blipFill>
        <p:spPr>
          <a:xfrm>
            <a:off x="1476360" y="4595760"/>
            <a:ext cx="1511280" cy="35568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4" descr=""/>
          <p:cNvPicPr/>
          <p:nvPr/>
        </p:nvPicPr>
        <p:blipFill>
          <a:blip r:embed="rId5"/>
          <a:stretch/>
        </p:blipFill>
        <p:spPr>
          <a:xfrm>
            <a:off x="6084720" y="5084640"/>
            <a:ext cx="2519640" cy="35568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4" descr=""/>
          <p:cNvPicPr/>
          <p:nvPr/>
        </p:nvPicPr>
        <p:blipFill>
          <a:blip r:embed="rId6"/>
          <a:stretch/>
        </p:blipFill>
        <p:spPr>
          <a:xfrm>
            <a:off x="4284720" y="6073920"/>
            <a:ext cx="4535280" cy="35532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4" descr=""/>
          <p:cNvPicPr/>
          <p:nvPr/>
        </p:nvPicPr>
        <p:blipFill>
          <a:blip r:embed="rId7"/>
          <a:stretch/>
        </p:blipFill>
        <p:spPr>
          <a:xfrm>
            <a:off x="1476360" y="6465960"/>
            <a:ext cx="5327640" cy="3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8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3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8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228600" y="1623960"/>
            <a:ext cx="8686800" cy="401976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4" descr=""/>
          <p:cNvPicPr/>
          <p:nvPr/>
        </p:nvPicPr>
        <p:blipFill>
          <a:blip r:embed="rId2"/>
          <a:stretch/>
        </p:blipFill>
        <p:spPr>
          <a:xfrm>
            <a:off x="8282160" y="3338640"/>
            <a:ext cx="442800" cy="35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Picture 1" descr=""/>
          <p:cNvPicPr/>
          <p:nvPr/>
        </p:nvPicPr>
        <p:blipFill>
          <a:blip r:embed="rId1"/>
          <a:stretch/>
        </p:blipFill>
        <p:spPr>
          <a:xfrm>
            <a:off x="490680" y="757080"/>
            <a:ext cx="8162640" cy="569628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2" descr=""/>
          <p:cNvPicPr/>
          <p:nvPr/>
        </p:nvPicPr>
        <p:blipFill>
          <a:blip r:embed="rId2"/>
          <a:stretch/>
        </p:blipFill>
        <p:spPr>
          <a:xfrm>
            <a:off x="928800" y="6531120"/>
            <a:ext cx="6134040" cy="26640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4" descr=""/>
          <p:cNvPicPr/>
          <p:nvPr/>
        </p:nvPicPr>
        <p:blipFill>
          <a:blip r:embed="rId3"/>
          <a:stretch/>
        </p:blipFill>
        <p:spPr>
          <a:xfrm>
            <a:off x="4140360" y="1901880"/>
            <a:ext cx="1584000" cy="35568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4" descr=""/>
          <p:cNvPicPr/>
          <p:nvPr/>
        </p:nvPicPr>
        <p:blipFill>
          <a:blip r:embed="rId4"/>
          <a:stretch/>
        </p:blipFill>
        <p:spPr>
          <a:xfrm>
            <a:off x="3059280" y="4653000"/>
            <a:ext cx="4176720" cy="35568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4" descr=""/>
          <p:cNvPicPr/>
          <p:nvPr/>
        </p:nvPicPr>
        <p:blipFill>
          <a:blip r:embed="rId5"/>
          <a:stretch/>
        </p:blipFill>
        <p:spPr>
          <a:xfrm>
            <a:off x="5003640" y="5589720"/>
            <a:ext cx="792360" cy="35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5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0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5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1" name="Picture 1" descr=""/>
          <p:cNvPicPr/>
          <p:nvPr/>
        </p:nvPicPr>
        <p:blipFill>
          <a:blip r:embed="rId1"/>
          <a:stretch/>
        </p:blipFill>
        <p:spPr>
          <a:xfrm>
            <a:off x="214200" y="909720"/>
            <a:ext cx="8715600" cy="559116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4" descr=""/>
          <p:cNvPicPr/>
          <p:nvPr/>
        </p:nvPicPr>
        <p:blipFill>
          <a:blip r:embed="rId2"/>
          <a:stretch/>
        </p:blipFill>
        <p:spPr>
          <a:xfrm>
            <a:off x="4427640" y="4675320"/>
            <a:ext cx="4176720" cy="3553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4" descr=""/>
          <p:cNvPicPr/>
          <p:nvPr/>
        </p:nvPicPr>
        <p:blipFill>
          <a:blip r:embed="rId3"/>
          <a:stretch/>
        </p:blipFill>
        <p:spPr>
          <a:xfrm>
            <a:off x="5796000" y="5661000"/>
            <a:ext cx="2232000" cy="3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2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7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Picture 1" descr=""/>
          <p:cNvPicPr/>
          <p:nvPr/>
        </p:nvPicPr>
        <p:blipFill>
          <a:blip r:embed="rId1"/>
          <a:stretch/>
        </p:blipFill>
        <p:spPr>
          <a:xfrm>
            <a:off x="466560" y="960480"/>
            <a:ext cx="8210880" cy="547668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4" descr=""/>
          <p:cNvPicPr/>
          <p:nvPr/>
        </p:nvPicPr>
        <p:blipFill>
          <a:blip r:embed="rId2"/>
          <a:stretch/>
        </p:blipFill>
        <p:spPr>
          <a:xfrm>
            <a:off x="4500720" y="1432080"/>
            <a:ext cx="792000" cy="35532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4" descr=""/>
          <p:cNvPicPr/>
          <p:nvPr/>
        </p:nvPicPr>
        <p:blipFill>
          <a:blip r:embed="rId3"/>
          <a:stretch/>
        </p:blipFill>
        <p:spPr>
          <a:xfrm>
            <a:off x="250920" y="2421000"/>
            <a:ext cx="8893080" cy="35568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4" descr=""/>
          <p:cNvPicPr/>
          <p:nvPr/>
        </p:nvPicPr>
        <p:blipFill>
          <a:blip r:embed="rId4"/>
          <a:stretch/>
        </p:blipFill>
        <p:spPr>
          <a:xfrm>
            <a:off x="250920" y="2917800"/>
            <a:ext cx="8893080" cy="35388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4" descr=""/>
          <p:cNvPicPr/>
          <p:nvPr/>
        </p:nvPicPr>
        <p:blipFill>
          <a:blip r:embed="rId5"/>
          <a:stretch/>
        </p:blipFill>
        <p:spPr>
          <a:xfrm>
            <a:off x="250920" y="3368520"/>
            <a:ext cx="8893080" cy="35568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4" descr=""/>
          <p:cNvPicPr/>
          <p:nvPr/>
        </p:nvPicPr>
        <p:blipFill>
          <a:blip r:embed="rId6"/>
          <a:stretch/>
        </p:blipFill>
        <p:spPr>
          <a:xfrm>
            <a:off x="250920" y="3865680"/>
            <a:ext cx="8893080" cy="35532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4" descr=""/>
          <p:cNvPicPr/>
          <p:nvPr/>
        </p:nvPicPr>
        <p:blipFill>
          <a:blip r:embed="rId7"/>
          <a:stretch/>
        </p:blipFill>
        <p:spPr>
          <a:xfrm>
            <a:off x="250920" y="4305240"/>
            <a:ext cx="8893080" cy="35568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4" descr=""/>
          <p:cNvPicPr/>
          <p:nvPr/>
        </p:nvPicPr>
        <p:blipFill>
          <a:blip r:embed="rId8"/>
          <a:stretch/>
        </p:blipFill>
        <p:spPr>
          <a:xfrm>
            <a:off x="250920" y="4816440"/>
            <a:ext cx="8893080" cy="35568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4" descr=""/>
          <p:cNvPicPr/>
          <p:nvPr/>
        </p:nvPicPr>
        <p:blipFill>
          <a:blip r:embed="rId9"/>
          <a:stretch/>
        </p:blipFill>
        <p:spPr>
          <a:xfrm>
            <a:off x="250920" y="5348160"/>
            <a:ext cx="8893080" cy="64476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4" descr=""/>
          <p:cNvPicPr/>
          <p:nvPr/>
        </p:nvPicPr>
        <p:blipFill>
          <a:blip r:embed="rId10"/>
          <a:stretch/>
        </p:blipFill>
        <p:spPr>
          <a:xfrm>
            <a:off x="250920" y="6100920"/>
            <a:ext cx="8893080" cy="35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4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9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4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9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4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9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4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Picture 1" descr=""/>
          <p:cNvPicPr/>
          <p:nvPr/>
        </p:nvPicPr>
        <p:blipFill>
          <a:blip r:embed="rId1"/>
          <a:stretch/>
        </p:blipFill>
        <p:spPr>
          <a:xfrm>
            <a:off x="709560" y="857160"/>
            <a:ext cx="7724880" cy="113364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4" descr=""/>
          <p:cNvPicPr/>
          <p:nvPr/>
        </p:nvPicPr>
        <p:blipFill>
          <a:blip r:embed="rId2"/>
          <a:stretch/>
        </p:blipFill>
        <p:spPr>
          <a:xfrm>
            <a:off x="250920" y="878040"/>
            <a:ext cx="8893080" cy="59508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4" descr=""/>
          <p:cNvPicPr/>
          <p:nvPr/>
        </p:nvPicPr>
        <p:blipFill>
          <a:blip r:embed="rId3"/>
          <a:stretch/>
        </p:blipFill>
        <p:spPr>
          <a:xfrm>
            <a:off x="250920" y="1620720"/>
            <a:ext cx="8893080" cy="3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1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6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1" descr=""/>
          <p:cNvPicPr/>
          <p:nvPr/>
        </p:nvPicPr>
        <p:blipFill>
          <a:blip r:embed="rId1"/>
          <a:stretch/>
        </p:blipFill>
        <p:spPr>
          <a:xfrm>
            <a:off x="243000" y="1938240"/>
            <a:ext cx="8658000" cy="31338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2"/>
          <a:stretch/>
        </p:blipFill>
        <p:spPr>
          <a:xfrm>
            <a:off x="8259840" y="2478240"/>
            <a:ext cx="442800" cy="35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247680" y="1933560"/>
            <a:ext cx="8648640" cy="32101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2"/>
          <a:stretch/>
        </p:blipFill>
        <p:spPr>
          <a:xfrm>
            <a:off x="8259840" y="2443320"/>
            <a:ext cx="442800" cy="35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1" descr=""/>
          <p:cNvPicPr/>
          <p:nvPr/>
        </p:nvPicPr>
        <p:blipFill>
          <a:blip r:embed="rId1"/>
          <a:stretch/>
        </p:blipFill>
        <p:spPr>
          <a:xfrm>
            <a:off x="243000" y="1000080"/>
            <a:ext cx="8658000" cy="30290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2" descr=""/>
          <p:cNvPicPr/>
          <p:nvPr/>
        </p:nvPicPr>
        <p:blipFill>
          <a:blip r:embed="rId2"/>
          <a:stretch/>
        </p:blipFill>
        <p:spPr>
          <a:xfrm>
            <a:off x="223920" y="4195800"/>
            <a:ext cx="8696160" cy="8762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3"/>
          <a:stretch/>
        </p:blipFill>
        <p:spPr>
          <a:xfrm>
            <a:off x="619200" y="5238720"/>
            <a:ext cx="5105160" cy="1428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4"/>
          <a:stretch/>
        </p:blipFill>
        <p:spPr>
          <a:xfrm>
            <a:off x="8259840" y="1557360"/>
            <a:ext cx="442800" cy="3538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5"/>
          <a:stretch/>
        </p:blipFill>
        <p:spPr>
          <a:xfrm>
            <a:off x="8259840" y="4168800"/>
            <a:ext cx="442800" cy="3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1" descr=""/>
          <p:cNvPicPr/>
          <p:nvPr/>
        </p:nvPicPr>
        <p:blipFill>
          <a:blip r:embed="rId1"/>
          <a:stretch/>
        </p:blipFill>
        <p:spPr>
          <a:xfrm>
            <a:off x="233280" y="1281240"/>
            <a:ext cx="8677440" cy="47908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2"/>
          <a:stretch/>
        </p:blipFill>
        <p:spPr>
          <a:xfrm>
            <a:off x="8259840" y="1268280"/>
            <a:ext cx="442800" cy="3556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3"/>
          <a:stretch/>
        </p:blipFill>
        <p:spPr>
          <a:xfrm>
            <a:off x="8259840" y="4594320"/>
            <a:ext cx="442800" cy="3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233280" y="847800"/>
            <a:ext cx="8677440" cy="20098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2" descr=""/>
          <p:cNvPicPr/>
          <p:nvPr/>
        </p:nvPicPr>
        <p:blipFill>
          <a:blip r:embed="rId2"/>
          <a:stretch/>
        </p:blipFill>
        <p:spPr>
          <a:xfrm>
            <a:off x="237960" y="3019320"/>
            <a:ext cx="8668080" cy="36957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3"/>
          <a:stretch/>
        </p:blipFill>
        <p:spPr>
          <a:xfrm>
            <a:off x="8259840" y="1413000"/>
            <a:ext cx="442800" cy="3553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4"/>
          <a:stretch/>
        </p:blipFill>
        <p:spPr>
          <a:xfrm>
            <a:off x="8259840" y="3529080"/>
            <a:ext cx="442800" cy="3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1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86800" cy="53625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2"/>
          <a:stretch/>
        </p:blipFill>
        <p:spPr>
          <a:xfrm>
            <a:off x="8259840" y="3794040"/>
            <a:ext cx="442800" cy="3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"/>
          <p:cNvPicPr/>
          <p:nvPr/>
        </p:nvPicPr>
        <p:blipFill>
          <a:blip r:embed="rId1"/>
          <a:stretch/>
        </p:blipFill>
        <p:spPr>
          <a:xfrm>
            <a:off x="228600" y="1928880"/>
            <a:ext cx="8686800" cy="8856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"/>
          <p:cNvPicPr/>
          <p:nvPr/>
        </p:nvPicPr>
        <p:blipFill>
          <a:blip r:embed="rId2"/>
          <a:stretch/>
        </p:blipFill>
        <p:spPr>
          <a:xfrm>
            <a:off x="642960" y="3009960"/>
            <a:ext cx="8229600" cy="25621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3"/>
          <a:stretch/>
        </p:blipFill>
        <p:spPr>
          <a:xfrm>
            <a:off x="8259840" y="3002040"/>
            <a:ext cx="442800" cy="3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4T03:42:40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